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DAB-81B2-4A89-A038-A98A1F27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FA7-2C62-4DFA-834F-EC56CAFF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EEE47-B0EB-49B9-95F2-D8834C05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BBB5B-787D-4140-9447-80253EC5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0AC12-3722-4893-9ADF-C3F7BE6F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094CB-2B41-4FD4-B310-7B92C035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B8FD9-967F-44E4-9E7B-5A3ACE7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85434-B94C-4C2D-A1B3-F0CBB10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90158-1344-4A26-B83F-4DBB479E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2C29D-8DAC-499C-8D63-11BEC0F4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412C4-C4C4-4370-B8BC-609B985C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7C49C-C157-46BE-9F85-6C6D25A4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F8D-B085-40D1-9938-67552F95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0B39E-92C7-45AA-9549-BE281F89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1E302-7F5A-4C1E-9D33-ABC4FE90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0650C-F7D6-4BDB-9AEF-0603759E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A8FA6-BB00-4D95-9E13-CA4F1002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3B985-A95A-4477-B8C2-551DF146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BC066-03E0-4A46-A8BA-FF25BFC9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A0434-5DC4-487C-8FC4-416111B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20D49-5FFC-47B1-8F9B-60AE2AF1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A21F5-2214-4510-AABF-6470155B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DA739-EFA5-4320-B9F6-556B1D35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25B-19D0-4699-B4DE-ABC1AA96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BFEEE-0DEB-4FE3-9F0A-F26B42DC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18BA9-80BF-42B6-8B43-B4BD3C99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B4952-866B-4CF6-ABF2-332F75C8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6E0D8-DEAD-4595-8912-9AF705D3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63474-9941-4400-922A-595F3EDC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56246-915D-4A4F-B89C-4672756E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22F85-74EC-46D2-8678-07060D00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A8BBA-9469-402F-929A-1AB0DC0C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DE68F-0CF7-47E9-B182-F6F97B9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EF638-C3E4-4F78-9A6F-0103E16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5A3B-9FA9-4888-B936-840CC3D2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E58A6-FAD4-49BF-8BBB-DAC4021E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6BAF7-0573-46A8-B5B2-B9BA93A1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9F241-3A6E-4245-A132-FD229F42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7D39D-DF65-4195-A82F-53C8B059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01A20-D6A7-401B-A513-CD7D6776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A85F0-4994-449C-AE47-CBF63645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DD917-2A2D-49D8-9B4B-329D51BD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6A0A5-AC3D-4EA4-8383-4304BBB4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9F1A6-0369-46C3-B296-706664E7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E400A-83D8-4EBA-8D75-A17628D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6E04-11EA-4871-8764-9E84ED7C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FA1E4-8D40-473B-8A52-B4BD266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50E6A-470E-4D5F-8BBE-041B06D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976E6-4029-47AD-8423-F3CD31B3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E69D9-253A-4417-8159-F6A7BA57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44728-D152-43EA-A792-A70A5118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808A7-EB3C-438B-A546-CC61B3B5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F1EB8-2988-42D8-B53C-630A5F78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FEADF-C2D6-4CB3-8B3D-6D89B394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F9D94-D8EE-4CB2-8D55-1DE6B263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AFEC8-7E31-4CBD-AFC9-2F3AB575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8AEF-619B-41E8-9994-23FD0AB7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243CB-D60A-4F0E-8741-3FC8C6C4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5948B-2E1C-4AC8-93FD-684ECBAF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D05B7-DF90-40A9-91CC-99BEA719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927AD-DCEF-47E0-9DE6-0032258F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AFB22-7116-408E-8694-E9AC57F9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FB0BA-BEA3-49EE-9437-FEC0BEEE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3A259-5FAF-413D-ABF7-9E659A4F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18411-2119-40B4-82C6-0F356F25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3B3CC-34B5-48A9-866A-50A3BD90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3075E-CB72-4EBC-895E-633C66A4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1C2E-AF93-499D-9DA2-86443D7A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D03AF-DC8E-40BE-8ACD-A9A1508B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436E1-4109-47C4-B68D-410D5872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E4F59-7672-4D20-A0DD-3E06D4E4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C5604-EAFE-4091-ABD8-71C4A093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93E61-24F3-416B-B9D5-6791D77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82048-16F4-4F3F-BFAA-05FF9D7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07747-096E-4AD0-BE1E-02615119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386EA-9527-4D5F-97D0-2EB1BDFB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5FBA8-B877-4851-8B83-9B426BDE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0BC7C-8F5E-4E8C-97AF-F7C09C9B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2252-2746-4ED8-82D2-A2D2F1EE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96D4B-9AD8-47ED-B184-8BD9003D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401BD-B0F4-4131-8A41-04B21DE1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8FF58-6C50-4309-9DA4-591E41CA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FC40B-C975-48C9-A9DC-805675D5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33B1F1-8E8D-4423-9ED0-13150E9A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F677A-1F18-4B73-8A45-E9950156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C7617-E108-487C-9D4F-8E813B61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A08D2-B8F5-4900-A486-B00C4B66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A5E58-3BA3-4084-864D-82703943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63091-499E-41BC-907C-C02DA6A0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670E-D0C2-43D3-8D62-245C511E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40953-F6C0-43B7-8FD8-328E40DC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6470E-2E30-4C63-8294-25FDF48E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E9A83-2CA7-400B-96E1-B92C1BE9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ADBE8-FA35-4AE4-81E5-CD0E0ADA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7CF21-0E79-4AE7-97A7-09AFFE67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6C043-2D6F-4006-91C8-B910A7FB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AADCE-5A90-44D2-B298-E22FA82D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66509-CE6F-4489-96D0-AC02F197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CFE93-A2E7-4DF2-927E-E4433DD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096D3-A3CB-4B5A-A894-D09330F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5F5C-1982-4AB6-8A2C-B9924A7A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E680A-E76A-4C11-B048-3611D5B7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46AB6-6DFF-4138-B8D4-B7142774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8BC31-6117-44EE-A265-1B320C2C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B4414-6DE7-4140-BBE0-7228252C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5478A-F2FA-4DDA-A9D6-6B75EEE1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E66115-EAF2-4951-BD1A-D6CDD86C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10727-5FD5-4146-8804-11BAC2B5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A91E0-1796-4BDA-BD10-89D596CB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67E4DD-5020-4957-9024-49F1FB52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57319-B10C-466B-A248-DF194FD5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D27-0668-478E-992D-A284BAEA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763C-CB6F-4117-913B-9CF7A464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63195-9CF9-4C3B-8219-A70C081E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44B60E-7457-48DA-B4DD-AFE7C6FD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6AE105-8D67-4C64-95E9-98517FA2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8423C-0282-4D9F-9805-13FB69C5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DEBC6-D523-42CB-86DD-69757610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828E18-98DA-445B-B099-80CA8911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CB361-0894-4A46-B049-3BB18AD4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50D4E-9839-4433-B22C-11D94745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DC14C-053D-4830-85BA-292D94BD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7795B-27EB-4D28-A913-B4B4AABE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71F3-B299-41A0-95D3-7455ADFB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5725CE-D62F-4271-83A0-A9E63E9B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9F1A5-DDDF-4B18-AA1E-BE6F9C1B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B54BBF-EA55-425D-B32D-6C5AB2D4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736BE-4D09-472B-9E59-28F5002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936ED-3C2D-4581-BBDA-D277EF70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1D545-A724-425E-A845-B9AA13FF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1C9E8C-A9E2-4D50-B318-3BA50E84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E5372C-5B70-4442-A9DD-3A5FA4BC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268659-19E7-4DD1-9A50-9D7C53D7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B79B3F-15EC-40A9-8B01-2AF6A4E7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FE5A-422F-4AD0-AAA5-7E6A9301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E17074-9409-4ADE-870A-16DF72B2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CA1CD-0099-424E-B279-B2A0A937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19094B-307C-4C20-A997-6A540DB2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AE4DD-6D8B-4468-BD54-C9FAA23A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301DFE-C819-47A6-9127-4EAF092D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57474-5599-4A72-B87F-95455BBC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A1DF96-C6AD-42D4-A4AD-40797FE4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58C51-49E1-461B-8AA8-A93B4B63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5C06A-99F3-493D-ABD5-74ECDE7D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DEF136-0BA6-4402-9EE5-F8A6AAC6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B187-7516-45AD-82F7-E1A14810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ED0A0-1C1F-46C8-9CE3-079DB82F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A170F-3924-4F34-931A-008E3BA1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1EB465-477B-4FB3-AC72-4714080E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606FDF-878C-42F4-8328-1EDAB507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B20193-C5C3-49D3-BF6F-0760A765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A69C80-1AEC-42A2-8163-C60369D3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C28584-5FD2-40C3-BE62-6B5DD9DD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A25024-4B91-406B-BB34-D81EE92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3600C-57E6-4E43-A2D0-BCEB6226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24C23-45AB-490A-AB9B-98474026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FA33-F376-4979-A5A0-B876DD13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05FDA1-03BD-4FEC-9EC1-4C5BCF9A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C43E1E-2706-4938-B094-8BDBFCBC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205CE9-98DD-4986-A118-30DF5517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ED4AB0-EA40-4EE7-9BC4-005C058E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96200-915B-4E6C-9C08-C28A4EBD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C56727-FFA7-4B43-A8BE-25F7EDC4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B68BFB-CE57-4DCD-93C2-90FCF4FE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BC86A6-EEE6-4C0B-9138-F5CABF7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FE5D3-DB8B-4BDF-B2C4-B437E7D8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4499E-AFA0-4FAB-8963-04F9D21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AC8F-4558-47CF-BDF6-4B19F36B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647D9-FB72-479C-82B1-6857C755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53F165-85DB-4E93-8C7E-A58C858D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18667-CAF8-4E67-9F8E-DD087384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315586-108A-4CE9-BDAA-93524CBB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E1470D-9B7A-40E5-981D-B209E837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3CFAA0-C8C5-4A70-ABE1-F2A243EA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ADBBEE-809C-440C-AFEA-CA16597D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67348E-5F52-4655-B59B-A5986AA5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53370B-E2D0-4BBE-BD3C-74590630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1E3DB7-6E4B-4524-BA48-A7DAA068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10E8-2C36-447A-93A9-0F5B4635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1DCCE4-44B2-4EAD-82A7-B28F995D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5D31C0-3CCE-4889-B749-DB299EAD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C4E4A1-5199-4FF0-B5CF-169503FF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46CD0E-0458-4B48-A4B6-AC7A344E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75AB98-21E3-426F-9DB3-27116F7A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29B50B-B36D-410C-A5E3-FF3C9037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823EC9-E629-4A2A-86F4-F1285295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7176E8-85B1-44AF-8420-ED951AE3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E36B0E-ED0A-4DD6-A06C-F0937B69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9DB875-520A-4D67-A1C2-F1D7B66F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BBE0-C5A6-4FDE-97F3-3BAD6E9A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9341BE-E271-46F5-8D41-9CA9A41F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2BBA57-6DFE-4214-84F4-32BCAC73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6642E8-6452-44A9-A3DC-E7E1BA94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D5D27C-B448-4AA9-8EA4-745979A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7BA65F-A1D9-46FF-AAEC-7D40F47E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0B7FF9-8B6D-40C5-9F67-FEF9D2F1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2919E7-3B02-4DF1-AE3F-12E8B682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0A06-059B-4C42-8550-06AF03F7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BCCD-9CB9-4BC8-AD1C-36813BA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F99-F4AB-4007-A760-26162FEB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E6CE-9FD2-42C8-9C1A-A32C9078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8138-8F21-4BEC-A33C-AE019074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7CB6-F1CC-4730-B503-8B388D85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6AC4-4B1E-4312-86A3-C25B6946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7037-D3FE-428C-9CEC-6325BE91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EC94-5674-4FD4-8CAD-8B1C05BC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23C8F-2EE8-4AC7-B40E-25D20881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6C65-3635-4FAF-83ED-A4D0A487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70235-61EC-4F11-B84F-9323DE9D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2829-79EC-4AB6-85BA-0892A254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F3C-6C24-4813-8B5D-60693977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1267-22D7-46EC-A0A5-C1D4B166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ADE61-029C-44C7-9F3C-C1276A62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2C8C3-03BC-4C4B-9D0B-4AC09E10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29BE-6468-42AF-AEC7-52F593A8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C81A-C05C-4DD1-866F-B17F499F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0D4C1-7ABB-4ED9-A08D-E1647FE2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63CB7-026B-4D27-9145-F2A711D0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F8DED-75A4-46E2-9A66-012A3915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7A79-7B3A-4F1C-A96B-B55F1DA4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72806-9A6D-4D63-9B22-C29CCCD0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32A-156C-4381-8384-7EEB1A79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6B666-EE36-4DA4-AF91-CD24D0C5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EC727-0542-44CC-BA5D-8B4780DE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ED8CF-40AE-4BC8-A7AB-4B5659B3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6700F-0A5B-42A1-8A2F-46A95B88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60931-34A1-4926-8DDB-F53DF3F4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27A34-A338-4DFA-ACD7-0E549276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39770-B7C3-45D6-9ECC-62397794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DDE60-83F3-46B1-981C-19D95CF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F58EC-66A2-4598-96C8-644ABF8D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DB4AE-384D-4601-8BDA-B6002C91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EF0-DDCB-485E-89DC-28447D40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193A2-EE29-450B-B542-9B3014B4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CE522-2CD8-46BD-9D8F-AC769F13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DC451-918A-4F05-8147-EE934EB0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748A5-E645-4CBD-B70E-E0C00897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F6673-F066-4AFA-98F0-2319D9F8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E03AE-0734-45E4-86EC-52D18CCD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073E7-0849-4BD1-87AA-489F4A1C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03A5A-7B80-4155-BA89-B6725FA9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CFF08-477F-48A6-A43B-8458C711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B4AD-7F90-40EF-8A13-A0AE2DD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9CB4-E915-42E9-8F5B-44E42C67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8B4FD-7F16-412C-9D41-E1FD368B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F7875-3F00-460A-A860-80C9BB1A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ADAFC-F677-4AF8-80E3-3E00848A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19B1E-0C23-4384-B090-BAE6F288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55C18-4819-46CF-BFF3-09844FDE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94E34-4C8C-42C2-8B50-E6886E31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5DFC6-1CBF-4545-BF72-8616C7FC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19040-8892-484B-9CC0-46F73ADC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522DD-A982-4C7E-A098-408ADAA7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FB210-0617-49AF-AF4B-D2298700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364-6505-4E03-96B8-DD2863A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5F07-8070-481E-81C0-1FB8412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66336-967D-4121-BDD4-05F0A5B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1CD5A-6752-4545-B2AD-12E4F87E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7E78C-9409-426F-9D3D-3B127393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674CA-EE11-4549-82AE-FC55950F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5BE9D-D9F4-4E11-A0BE-829B05B5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127F3-5A18-46D1-9F2C-CD5D3F2D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0F23E-4104-40B5-8F06-4CADE902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136CD-C29D-403C-A114-5BA1CC8D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E2785-AA71-44A1-9709-0026CD56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FFF-AB25-4E8A-A704-98E17CAF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9F23A-4D1E-412F-BA2B-3E27557F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933AF-E89F-42C4-BF66-E5016584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10E53-9990-4C56-A78C-94020391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1ED2B-4C0C-4AB6-AA3E-57EF83CF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378F1-73B2-43A0-A6D8-EC807A0F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ADF8A-0245-4543-8CFC-66CFC9D7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25824-53B8-4429-86D0-2DFF4B72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6B1D5-E5C0-4ABD-B44E-540E3200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73DFC-04E7-4408-987B-12A6149D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AFF4B-492E-4CFA-951E-776A190B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F6DA-8804-40B1-9E9A-AA7B6556BB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6FCF-3C1A-4A62-9D48-AE1951813E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8539-AC5D-42D3-9441-26085EF2B7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A731-E262-416A-9C48-CA0B4D99F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C325-803D-4540-BD21-9627F759F3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DA54-5097-45AB-9DE1-81957CDF47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6AF7-97FB-4385-99F6-975B77917C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7E90-3BBB-415F-9D54-D96601D24A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93CC-C5B9-41FA-BE95-4111E4731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B0C4-B354-4536-9E65-AD3351B6E4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0F6B-C62E-40BA-90D3-18698BAF84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BE27-3576-40F2-94BF-2D78706667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C4F3-2255-4D15-824E-FD51482AA2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3DAF-3D18-4646-8C89-F440896BE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AA81-5383-4861-AAE4-8CE37BAE98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639A-635E-46BE-926C-0DB2C69359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837C-A4B1-41FC-BEDE-1E5C1624D4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25E3-D5C0-47ED-9062-0D9A11BD7E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28CE-E672-4B8B-B481-381384DC91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670C-96A6-4342-92F0-B80004DCEB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1EC4-6535-4C57-BA5B-78D28F8D64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8EFA-4FAB-4584-8240-DAA0A45202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88E8-7BBA-4AF8-927B-B488A75475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7C6E-D90E-40C8-9C8A-F6A50A0DEB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CD87-1D0B-4A37-A039-FC0049077C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A150-E8AE-4AE4-B9AC-8FB86BDDE7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776C-5077-4A71-80AE-29FF2FBBFA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9192-9476-4518-B343-D8406D6306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F0A9-8EEF-4AD0-85E0-2BC63D7F3A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6A89-FF76-4691-BA8C-79909CB23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2CB9-75DB-401C-803D-4F25B748F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B7D9-07A0-47E9-B37E-E88CF3DF71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A109-9BF8-4C68-B081-3C49272359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920D-AEB9-4277-80CA-2000C93D1C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E4C8-F32D-443B-8555-46C184960D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22F5-768E-426E-8C80-EDBA7ACA6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B74F-C5EB-4138-A286-812A24935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1561-4C08-4CDC-B4CF-D9305EF989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2CAB-A04F-4A3E-8447-165EBA324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FE3E-90A5-4FBF-A2AE-DD9A7ACEE7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6192-612A-442A-AFAA-F27BF0B265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3E04-4DC8-4139-BF7E-1A463BA505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317680" y="3006720"/>
            <a:ext cx="559116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185760" y="1085760"/>
            <a:ext cx="8771040" cy="46864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2771640" y="1682640"/>
            <a:ext cx="2016360" cy="40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6659640" y="2276640"/>
            <a:ext cx="2016000" cy="4060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1403280" y="3443400"/>
            <a:ext cx="64764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3276720" y="3457440"/>
            <a:ext cx="158256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4356000" y="4638600"/>
            <a:ext cx="1944720" cy="406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7"/>
          <a:stretch/>
        </p:blipFill>
        <p:spPr>
          <a:xfrm>
            <a:off x="2916360" y="5229360"/>
            <a:ext cx="194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237960" y="781200"/>
            <a:ext cx="8668080" cy="529560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1979640" y="2562120"/>
            <a:ext cx="2592360" cy="4064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755640" y="4308480"/>
            <a:ext cx="936720" cy="4064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4341960" y="4351320"/>
            <a:ext cx="936360" cy="4064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5"/>
          <a:stretch/>
        </p:blipFill>
        <p:spPr>
          <a:xfrm>
            <a:off x="1763640" y="5530680"/>
            <a:ext cx="338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图片 1" descr=""/>
          <p:cNvPicPr/>
          <p:nvPr/>
        </p:nvPicPr>
        <p:blipFill>
          <a:blip r:embed="rId1"/>
          <a:stretch/>
        </p:blipFill>
        <p:spPr>
          <a:xfrm>
            <a:off x="200160" y="2266920"/>
            <a:ext cx="8743680" cy="232416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2"/>
          <a:stretch/>
        </p:blipFill>
        <p:spPr>
          <a:xfrm>
            <a:off x="755640" y="2881440"/>
            <a:ext cx="1728720" cy="4064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3"/>
          <a:stretch/>
        </p:blipFill>
        <p:spPr>
          <a:xfrm>
            <a:off x="4788000" y="2895480"/>
            <a:ext cx="1584360" cy="4064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1195200" cy="40644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5"/>
          <a:stretch/>
        </p:blipFill>
        <p:spPr>
          <a:xfrm>
            <a:off x="2887560" y="4062240"/>
            <a:ext cx="11955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84040" y="809640"/>
            <a:ext cx="8685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2" descr=""/>
          <p:cNvPicPr/>
          <p:nvPr/>
        </p:nvPicPr>
        <p:blipFill>
          <a:blip r:embed="rId1"/>
          <a:stretch/>
        </p:blipFill>
        <p:spPr>
          <a:xfrm>
            <a:off x="333360" y="2281320"/>
            <a:ext cx="84772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2" descr=""/>
          <p:cNvPicPr/>
          <p:nvPr/>
        </p:nvPicPr>
        <p:blipFill>
          <a:blip r:embed="rId1"/>
          <a:stretch/>
        </p:blipFill>
        <p:spPr>
          <a:xfrm>
            <a:off x="214200" y="1119240"/>
            <a:ext cx="8713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173160" y="822240"/>
            <a:ext cx="8656560" cy="4037040"/>
          </a:xfrm>
          <a:prstGeom prst="rect">
            <a:avLst/>
          </a:prstGeom>
          <a:ln w="0">
            <a:noFill/>
          </a:ln>
        </p:spPr>
      </p:pic>
      <p:pic>
        <p:nvPicPr>
          <p:cNvPr id="1111" name="图片 2" descr=""/>
          <p:cNvPicPr/>
          <p:nvPr/>
        </p:nvPicPr>
        <p:blipFill>
          <a:blip r:embed="rId2"/>
          <a:stretch/>
        </p:blipFill>
        <p:spPr>
          <a:xfrm>
            <a:off x="525600" y="4994280"/>
            <a:ext cx="83041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181080" y="814320"/>
            <a:ext cx="8781840" cy="522936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2" descr=""/>
          <p:cNvPicPr/>
          <p:nvPr/>
        </p:nvPicPr>
        <p:blipFill>
          <a:blip r:embed="rId2"/>
          <a:stretch/>
        </p:blipFill>
        <p:spPr>
          <a:xfrm>
            <a:off x="1855800" y="6240600"/>
            <a:ext cx="6696000" cy="4665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611280" y="4984920"/>
            <a:ext cx="5032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176040" y="1085760"/>
            <a:ext cx="8790120" cy="46864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662040" y="2252520"/>
            <a:ext cx="7818480" cy="23529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5032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347760" y="1647720"/>
            <a:ext cx="8447040" cy="35625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1476360" y="2274840"/>
            <a:ext cx="1800360" cy="406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588000" y="2276640"/>
            <a:ext cx="1800360" cy="4060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1547640" y="2867040"/>
            <a:ext cx="180036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227640" y="2881440"/>
            <a:ext cx="1800360" cy="4064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1908000" y="3471840"/>
            <a:ext cx="1800360" cy="406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6084720" y="3454560"/>
            <a:ext cx="1800360" cy="4060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8"/>
          <a:stretch/>
        </p:blipFill>
        <p:spPr>
          <a:xfrm>
            <a:off x="2050920" y="4062240"/>
            <a:ext cx="1800360" cy="406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9"/>
          <a:stretch/>
        </p:blipFill>
        <p:spPr>
          <a:xfrm>
            <a:off x="6227640" y="4059360"/>
            <a:ext cx="1800360" cy="4064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10"/>
          <a:stretch/>
        </p:blipFill>
        <p:spPr>
          <a:xfrm>
            <a:off x="1994040" y="4653000"/>
            <a:ext cx="2001600" cy="4064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11"/>
          <a:stretch/>
        </p:blipFill>
        <p:spPr>
          <a:xfrm>
            <a:off x="6170760" y="4648320"/>
            <a:ext cx="1800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0:3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